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CD5-B363-4242-80D6-24A03B67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963-8BE7-40A8-A55C-68D6A723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C97-4E81-4DE6-85B4-F44F72C2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2FE-6162-44CC-8828-16829200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A3E-7137-45B8-A1A8-2539551A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313-530E-4729-B8B9-5C73E136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5F1-25CF-4E58-B933-56B96621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A4D-0613-4DB5-B76D-0F43521D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5DE-9677-444A-93F0-8331D009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667-805C-42B8-A6E9-458C95FE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2D9-1504-4A63-945B-41D693C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D73-EEC2-48D4-9B16-573946E4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20FB-7643-4229-ABB0-9877EAE5C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 Všemohúci Bož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ám si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, Kráľ, svetlo, kr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, naša spás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mohúci Bož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patrí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 tvoj v úcte česť ti v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hromaždení svä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rne a vďa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ýtiť chceme duše lač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ám si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zdroj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den našej chv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rítomnosti tvoj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erubíni slúž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ôľu tvoju konať túž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ejú nebies chó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sa ti v úcte ko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voj trón piesní tó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vďakou našou le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, Otče svä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rítomnosti tvoj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a sveta sl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ýchlo vädne, opa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zum, vôľu, ci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 dar, čo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tebe odovzd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06:14Z</dcterms:modified>
  <cp:revision>11</cp:revision>
  <dc:subject/>
  <dc:title>Je veľký náš Pán, on slávy je Kráľ Nech do všetkých strán  spev vrúcnych znie chvál.</dc:title>
</cp:coreProperties>
</file>